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93C2-6A19-4E96-A113-04226735433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A496-7C78-4455-8B77-6A55506466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205200">
            <a:off x="10896120" y="812592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4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9" descr="DETearly722_Sml"/>
          <p:cNvPicPr/>
          <p:nvPr/>
        </p:nvPicPr>
        <p:blipFill>
          <a:blip r:embed="rId5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0" descr="DETearly805_Sml"/>
          <p:cNvPicPr/>
          <p:nvPr/>
        </p:nvPicPr>
        <p:blipFill>
          <a:blip r:embed="rId6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DETearly281_Sml"/>
          <p:cNvPicPr/>
          <p:nvPr/>
        </p:nvPicPr>
        <p:blipFill>
          <a:blip r:embed="rId7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HAR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861840" y="1830240"/>
            <a:ext cx="110538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Clear instructional focus e.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Text features and structures           - Problem-solving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Re-reading and self monitoring       - Finding evid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emonstration of how the reading process wor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Teaching for effective use of reading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High level question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Where appropriate, teachers schedule opportunities to promote familiarity and memorisation through repeated read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aily instruction : 15- 2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014480" y="380880"/>
            <a:ext cx="11177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01448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Using enlarged text 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udents discover what is relevant to becoming a reader – challenging and deepening thinking, questioning, self monitoring, self correcting, sampling, confirm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enrich literacy experiences e.g. varying the way texts are presented to clearly emphasise enjoy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analyse different text types and sty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5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008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rior observa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Assessment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 Data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E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aching for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2"/>
          <p:cNvSpPr/>
          <p:nvPr/>
        </p:nvSpPr>
        <p:spPr>
          <a:xfrm>
            <a:off x="785880" y="2516040"/>
            <a:ext cx="112806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 Level 4, students read,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spon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o a wide range of literary, everyday and media texts in print and in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multimod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formats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analy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se texts and support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ation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evidenc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rawn from the text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describ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ow texts are constructed for particular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purposes and audien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and identify how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ociocultural values, attitudes and belief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 presented in texts.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hey analyse information, imagery, characterisation, dialogue, point of view, plot and sett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y us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trategi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ch a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ading on, using contextual cu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awing on knowledg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ext organisatio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n interpreting texts contain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unfamiliar ideas a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VELS LEVEL 4 </a:t>
            </a:r>
            <a:br>
              <a:rPr sz="4300"/>
            </a:b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Statemen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RED READING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1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 Shared Reading Sec. Art.mo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2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2 Shared Reading.wm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538360" y="3201840"/>
            <a:ext cx="8381880" cy="2517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How does it look different across year level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10904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Many short, enlarged print text selection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charts – short factual and narrative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text selections e g. science experiment, newspaper reports, magazines and current affairs websi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songs, chants, poems and rhy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big books – all text ty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Enlarged texts and charts well displayed in easily accessible stor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eractive whiteboard, data projector &amp; overhead projec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Effective Reading Instruction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Teachers must have: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reading curriculum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about learners- What do they do and what do they know, at home and school?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instructional elem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High expectations of all stud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2"/>
          <p:cNvSpPr/>
          <p:nvPr/>
        </p:nvSpPr>
        <p:spPr>
          <a:xfrm>
            <a:off x="2157480" y="5487840"/>
            <a:ext cx="266688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90720" y="2209680"/>
            <a:ext cx="110487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reakthrough  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ullan Hill and Crevola</a:t>
            </a:r>
            <a:r>
              <a:rPr b="0" lang="en-AU" sz="1500" spc="-1" strike="noStrike">
                <a:solidFill>
                  <a:srgbClr val="44422c"/>
                </a:solidFill>
                <a:latin typeface="Arial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Teaching for Comprehending  and Fluency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ountas and Pinn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Western Australia First Steps Second E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Effective Literacy Practice 1-4 and 5-8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NZ Ministry of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Victorian Essential Learning Standards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DEE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ecoming Literate   C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3 level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44422c"/>
                </a:solidFill>
                <a:latin typeface="Arial"/>
              </a:rPr>
              <a:t>www.education.vic.gov.au/studentlearning</a:t>
            </a:r>
            <a:r>
              <a:rPr b="0" lang="en-AU" sz="1600" spc="-1" strike="noStrike" u="sng">
                <a:solidFill>
                  <a:srgbClr val="44422c"/>
                </a:solidFill>
                <a:uFillTx/>
                <a:latin typeface="Arial"/>
              </a:rPr>
              <a:t>/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14480" y="175428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Catching onto Comprehension- 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NAPLAN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AI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ROBE 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Skyrider Shared Reading 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Time for Kids website- http://www.timeforkids.com/TFK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Curriculu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reading proc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ocabulary: affected by worl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luency: expression, phrasing, rat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co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sponse to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xt selection: just right texts for Independent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008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8DA4-04BE-4B64-B70F-666672F0A41E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3147840" y="684360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AIRED VERBAL FLUENCY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  tells Person B everything s/he knows about the topic for about a minute, while number two listens carefully.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minute is up, Person B tells Person A everything s/he knows about the topic without repeating any ideas for 45 second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repeated for another two rounds, with a shorter amount of time allocated to each round(30 seconds and 15 seconds)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Person B will briefly paraphrase the conversation with the rest of the group.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538360" y="3201840"/>
            <a:ext cx="8381880" cy="170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Shared Reading?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its purpos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SHAR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hared Reading is whole class teaching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upportive environment, using enlarged pri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high quality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ers select text well suited to strateg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tudents and teachers share the task of read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xt which might otherwise prove too challeng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0:12:23Z</dcterms:created>
  <dc:creator>Cato Purnell</dc:creator>
  <dc:description/>
  <dc:language>en-US</dc:language>
  <cp:lastModifiedBy>Kylie Lipscombe</cp:lastModifiedBy>
  <dcterms:modified xsi:type="dcterms:W3CDTF">2009-08-05T11:04:34Z</dcterms:modified>
  <cp:revision>31</cp:revision>
  <dc:subject/>
  <dc:title>PowerPoint Presentation</dc:title>
</cp:coreProperties>
</file>